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049F-2A99-4A58-B844-216889F76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A640-022C-4CDD-BFDA-6B4D94CB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4C9A-D404-46F0-B220-6AB3D1B9B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152A-B17E-4771-9E80-B37871183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BFCF-ED7A-4B26-AE76-1E01BF13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3DE7-FF25-44C2-BF0B-8D8AA0BD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6475-07A4-4CA8-A39F-71F0849A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88AE-A38A-4BBB-927B-9650C892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1D43-2868-48C4-A4F3-E305A595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1501-A653-49BE-B0C3-7FBCAD7E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0819-5DD7-4A35-843F-EB58C072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AF97-2907-463C-9FF3-C3CDD4FF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A7C8-07FE-448A-B282-CAE0F8797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5400" spc="-1" strike="noStrike">
                <a:solidFill>
                  <a:srgbClr val="000000"/>
                </a:solidFill>
                <a:latin typeface="Lucida Calligraphy"/>
              </a:rPr>
              <a:t>Le microscop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581280" y="3429000"/>
            <a:ext cx="18018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00"/>
                </a:solidFill>
                <a:latin typeface="Lucida Calligraphy"/>
              </a:rPr>
              <a:t>Le microscop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3200" spc="-1" strike="noStrike">
                <a:solidFill>
                  <a:srgbClr val="000000"/>
                </a:solidFill>
                <a:latin typeface="Lucida Calligraphy"/>
              </a:rPr>
              <a:t>Antony Van Leeuwenkoek a été le 1</a:t>
            </a:r>
            <a:r>
              <a:rPr b="1" lang="fr-CA" sz="3200" spc="-1" strike="noStrike" baseline="30000">
                <a:solidFill>
                  <a:srgbClr val="000000"/>
                </a:solidFill>
                <a:latin typeface="Lucida Calligraphy"/>
              </a:rPr>
              <a:t>er</a:t>
            </a:r>
            <a:r>
              <a:rPr b="1" lang="fr-CA" sz="3200" spc="-1" strike="noStrike">
                <a:solidFill>
                  <a:srgbClr val="000000"/>
                </a:solidFill>
                <a:latin typeface="Lucida Calligraphy"/>
              </a:rPr>
              <a:t> à observer la vie microscopique. Il a passé environ 50 ans à étudier le microsc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200" spc="-1" strike="noStrike">
                <a:solidFill>
                  <a:srgbClr val="000000"/>
                </a:solidFill>
                <a:latin typeface="Lucida Calligraphy"/>
              </a:rPr>
              <a:t>*Qu’est-ce qu’un microscop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fr-CA" sz="3200" spc="-1" strike="noStrike">
                <a:solidFill>
                  <a:srgbClr val="000000"/>
                </a:solidFill>
                <a:latin typeface="Arial"/>
              </a:rPr>
              <a:t>C’est un instrument pour regarder quelque chose de très pet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96080" y="3124080"/>
            <a:ext cx="1138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Lucida Calligraphy"/>
              </a:rPr>
              <a:t>Les micro-organismes et les microb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Regarde les illustrations des P.36 et P.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CA" sz="3200" spc="-1" strike="noStrike">
                <a:solidFill>
                  <a:srgbClr val="000000"/>
                </a:solidFill>
                <a:latin typeface="Comic Sans MS"/>
              </a:rPr>
              <a:t>Essais de reproduire ces illustrations (7) dans ton cahier. Identifie chaque micro-organis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581280" y="4114800"/>
            <a:ext cx="15652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16:26:07Z</dcterms:created>
  <dc:creator>nbdoe</dc:creator>
  <dc:description/>
  <dc:language>en-US</dc:language>
  <cp:lastModifiedBy>nbdoe</cp:lastModifiedBy>
  <dcterms:modified xsi:type="dcterms:W3CDTF">2008-10-28T16:40:01Z</dcterms:modified>
  <cp:revision>2</cp:revision>
  <dc:subject/>
  <dc:title>Le microscope</dc:title>
</cp:coreProperties>
</file>